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69A-D093-4DE8-BBA1-D9B00B45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DFE-214F-4B76-A131-DA9BD1CC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0E1-35DC-44F3-9EBB-063E61F8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CF6-C1C6-401A-BB96-D906CB8D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7D9-B438-4338-9FCE-EA46FC09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66C-D0EE-4907-ACCB-510F7003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11C-7760-409D-ACEC-9B737FD2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671-4992-4933-808A-692F702F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2F7-2236-4657-BA90-07D74447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D7E-02A3-4B4C-8F92-9084F7C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471-CBB5-474E-9B2C-D2932A4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6D9-F3D9-4F58-8F09-4726E156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FF96-6FFD-4F55-AFCC-8A85E0D91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1257480"/>
            <a:ext cx="32004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1676520"/>
            <a:ext cx="152280" cy="152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1676520"/>
            <a:ext cx="152640" cy="152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1676520"/>
            <a:ext cx="152280" cy="152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48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2600" y="1981080"/>
            <a:ext cx="546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B9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9480" y="1981080"/>
            <a:ext cx="546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B9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2440" y="1981080"/>
            <a:ext cx="546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B9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1523880"/>
            <a:ext cx="609480" cy="1067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1523880"/>
            <a:ext cx="609840" cy="1067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523880"/>
            <a:ext cx="609480" cy="1067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19:57:37Z</dcterms:created>
  <dc:creator>Ron  St.Laurent</dc:creator>
  <dc:description/>
  <dc:language>en-US</dc:language>
  <cp:lastModifiedBy>Ron  St.Laurent</cp:lastModifiedBy>
  <cp:lastPrinted>2002-06-25T00:08:45Z</cp:lastPrinted>
  <dcterms:modified xsi:type="dcterms:W3CDTF">2002-06-25T18:20:32Z</dcterms:modified>
  <cp:revision>2</cp:revision>
  <dc:subject/>
  <dc:title>No Slide Title</dc:title>
</cp:coreProperties>
</file>